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2AB-C906-4C8B-B949-FF11838F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33A6-3EB8-422C-A28F-6CDD5A5A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8BD2-D89C-489B-8718-4E67D62A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5180-604F-4D88-84DD-CABC001C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B3E-23A5-404B-A734-46AB4E76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714F-77D9-4C3D-9BC1-4013577B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4E8-32A3-44B6-ACF2-EDE30B39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83F-368B-430F-A49A-FDEEB8D4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258-91DF-4377-AC80-09D28A7F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4AA9-F198-4D99-BEB9-93E025AA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DC8-CB26-4D63-AB06-142B6CAC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66E-36F1-43E5-B5C4-8DE7BABE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4E49-0589-4B88-9A35-84392FFA12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&#1047;&#1074;&#1077;&#1088;&#1077;&#1074;&#1072;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54288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shablony-dlya-prezentaziy-11-3.jpg"/>
          <p:cNvPicPr/>
          <p:nvPr/>
        </p:nvPicPr>
        <p:blipFill>
          <a:blip r:embed="rId2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1060200" y="1143000"/>
            <a:ext cx="29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еши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153440" y="18572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6154920" y="185724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s623309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11880" y="5565600"/>
            <a:ext cx="1724040" cy="1298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5"/>
          <a:stretch/>
        </p:blipFill>
        <p:spPr>
          <a:xfrm>
            <a:off x="1071720" y="2786040"/>
            <a:ext cx="2838240" cy="485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6"/>
          <a:stretch/>
        </p:blipFill>
        <p:spPr>
          <a:xfrm>
            <a:off x="6143760" y="2786040"/>
            <a:ext cx="2638440" cy="485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7"/>
          <a:stretch/>
        </p:blipFill>
        <p:spPr>
          <a:xfrm>
            <a:off x="1500120" y="3714840"/>
            <a:ext cx="1781280" cy="4762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06"/>
          <p:cNvSpPr/>
          <p:nvPr/>
        </p:nvSpPr>
        <p:spPr>
          <a:xfrm>
            <a:off x="1428840" y="3571920"/>
            <a:ext cx="207144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"/>
          <p:cNvPicPr/>
          <p:nvPr/>
        </p:nvPicPr>
        <p:blipFill>
          <a:blip r:embed="rId8"/>
          <a:stretch/>
        </p:blipFill>
        <p:spPr>
          <a:xfrm>
            <a:off x="6357960" y="3714840"/>
            <a:ext cx="1781280" cy="4762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93"/>
          <p:cNvSpPr/>
          <p:nvPr/>
        </p:nvSpPr>
        <p:spPr>
          <a:xfrm>
            <a:off x="6215040" y="3571920"/>
            <a:ext cx="207180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7:29Z</dcterms:created>
  <dc:creator>Admin</dc:creator>
  <dc:description/>
  <dc:language>en-US</dc:language>
  <cp:lastModifiedBy>Admin</cp:lastModifiedBy>
  <dcterms:modified xsi:type="dcterms:W3CDTF">2004-01-01T00:17:50Z</dcterms:modified>
  <cp:revision>2</cp:revision>
  <dc:subject/>
  <dc:title>Слайд 1</dc:title>
</cp:coreProperties>
</file>